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63A8-909A-4D33-A411-84B0D426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FFD-E16C-444A-9C97-F05A519F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844-4F7F-4296-B566-336809B7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EDF-F9E7-43D7-B52B-19A00728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998-2173-428F-BFBC-6F6C6858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646-1D3B-40F7-8658-13369DB2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8E8-282F-43CA-B5F5-859796D2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3B9-C876-4BCF-8D69-E78D49E2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69F-DFF1-4C5F-A66E-E324C0AE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E9E-FCE3-455E-8891-99C35A82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460-1230-4771-9412-9902D0C5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A063-47AC-4E57-BB93-8AB3C0FC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8C91-E54E-4E45-94D5-7CA3F471D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vada-history.org/1861_10_confederate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7/7c/American_Civil_War_Battles_by_Theater,_Year.png/535px-American_Civil_War_Battles_by_Theater,_Year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ivilwarphotos.net/files/images/117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ivilwarphotos.net/files/images/23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ivilwarphotos.net/files/images/61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wec.edu/freitard/GroupAndMinority/Atlanta/images/atlanta%20civil%20war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magicalcat.com/images-recon/hap00068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ivilwarphotos.net/files/images/712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outhern.railfan.net/ties/1961/61-12/art1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nps.gov/archive/frsp/images/bridge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struction Standard 11.1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Confederate money became worthless, and banks cl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861_$10_confederate">
            <a:hlinkClick r:id="rId1"/>
          </p:cNvPr>
          <p:cNvPicPr/>
          <p:nvPr/>
        </p:nvPicPr>
        <p:blipFill>
          <a:blip r:embed="rId2"/>
          <a:srcRect l="4000" t="6667" r="3200" b="6667"/>
          <a:stretch/>
        </p:blipFill>
        <p:spPr>
          <a:xfrm>
            <a:off x="0" y="1295280"/>
            <a:ext cx="8839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Newly freed slaves, freedmen, had no land, jobs, or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ivil War Refugees (African-Americans in Ohio)"/>
          <p:cNvPicPr/>
          <p:nvPr/>
        </p:nvPicPr>
        <p:blipFill>
          <a:blip r:embed="rId1"/>
          <a:stretch/>
        </p:blipFill>
        <p:spPr>
          <a:xfrm>
            <a:off x="0" y="457200"/>
            <a:ext cx="5238720" cy="322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ivil War Refugee"/>
          <p:cNvPicPr/>
          <p:nvPr/>
        </p:nvPicPr>
        <p:blipFill>
          <a:blip r:embed="rId2"/>
          <a:stretch/>
        </p:blipFill>
        <p:spPr>
          <a:xfrm>
            <a:off x="6762600" y="533520"/>
            <a:ext cx="2381400" cy="3609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5181480" y="83808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ft and righ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st-Civil Wa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Civil War Refugees (Atlanta, 1865)"/>
          <p:cNvPicPr/>
          <p:nvPr/>
        </p:nvPicPr>
        <p:blipFill>
          <a:blip r:embed="rId3"/>
          <a:stretch/>
        </p:blipFill>
        <p:spPr>
          <a:xfrm>
            <a:off x="0" y="3438360"/>
            <a:ext cx="5238720" cy="3419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"/>
          <p:cNvSpPr/>
          <p:nvPr/>
        </p:nvSpPr>
        <p:spPr>
          <a:xfrm>
            <a:off x="5257800" y="6019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lanta, 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val 3"/>
          <p:cNvSpPr/>
          <p:nvPr/>
        </p:nvSpPr>
        <p:spPr>
          <a:xfrm>
            <a:off x="3124080" y="304920"/>
            <a:ext cx="2971800" cy="2209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811320" y="990720"/>
            <a:ext cx="20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355200" y="99072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9"/>
          <p:cNvSpPr/>
          <p:nvPr/>
        </p:nvSpPr>
        <p:spPr>
          <a:xfrm>
            <a:off x="0" y="2438280"/>
            <a:ext cx="3505320" cy="2971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304920" y="312408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iod of time after the Civil War when the South was rebui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5638680" y="2666880"/>
            <a:ext cx="3505320" cy="2971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5867280" y="3581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ederal program to rebuild the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3"/>
          <p:cNvSpPr/>
          <p:nvPr/>
        </p:nvSpPr>
        <p:spPr>
          <a:xfrm>
            <a:off x="3124080" y="5334120"/>
            <a:ext cx="20574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3276720" y="5867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65 - 18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 flipH="1">
            <a:off x="2742840" y="2057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5867280" y="198108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2971800" y="49528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ing Reconstructi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0" y="990720"/>
            <a:ext cx="91440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coln’s Ten Percent 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495680" y="1600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2209680"/>
            <a:ext cx="9144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10% of the state’s voters swore loyalty to the U.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0" y="3505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   …Southern states could rejoin the national governme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y abolished sla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495680" y="2819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gress’ Wade-Davis B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1371600"/>
            <a:ext cx="9144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144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 It required that 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jor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outhern white men swear loyalty to the U.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3048120"/>
            <a:ext cx="9144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0" y="3276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ied former Confederate soldiers the right to vote or hold political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4648320" y="685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46483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The Freedmen’s Bureau provided food, clothing, jobs, medical care, and education for millions of former slaves and poor wh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dmen’s 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key_students"/>
          <p:cNvPicPr/>
          <p:nvPr/>
        </p:nvPicPr>
        <p:blipFill>
          <a:blip r:embed="rId1"/>
          <a:stretch/>
        </p:blipFill>
        <p:spPr>
          <a:xfrm>
            <a:off x="914400" y="1143000"/>
            <a:ext cx="7334280" cy="4286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0" y="5305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eacher and elementary school students posing on the steps of the Hill School, ca. late 19th Century. The school was a part of the Christiansburg Institute, which was  first opened by the U. S. Freedmen's Bureau in 1866. (Montgomery County, 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0"/>
            <a:ext cx="9144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To analyze the government’s plan for the South after the Civil W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w: Use the glossary in your textbook to define the following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d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752480" y="3352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n and women who had been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514600" y="4419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building of the South after the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efeated S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Because the majority of battles took place in the South, many Southern houses, farms, bridges, and railroads were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535px-American_Civil_War_Battles_by_Theater,_Ye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600200"/>
            <a:ext cx="6800760" cy="4041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0" y="533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0" y="609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Based upon your observations of the map below, how were the North and the South effected differently as a result of the Civil W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17">
            <a:hlinkClick r:id="rId1"/>
          </p:cNvPr>
          <p:cNvPicPr/>
          <p:nvPr/>
        </p:nvPicPr>
        <p:blipFill>
          <a:blip r:embed="rId2"/>
          <a:srcRect l="15406" t="30257" r="16121" b="39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Ruins in Front of the Capitol – Richmond, VA, 18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231">
            <a:hlinkClick r:id="rId1"/>
          </p:cNvPr>
          <p:cNvPicPr/>
          <p:nvPr/>
        </p:nvPicPr>
        <p:blipFill>
          <a:blip r:embed="rId2"/>
          <a:srcRect l="0" t="10936" r="3208" b="18750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1295280" y="0"/>
            <a:ext cx="78487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nds of the Ruined Arsenal with Scattered Shot and Shell - Richmond, VA, April 18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617">
            <a:hlinkClick r:id="rId1"/>
          </p:cNvPr>
          <p:cNvPicPr/>
          <p:nvPr/>
        </p:nvPicPr>
        <p:blipFill>
          <a:blip r:embed="rId2"/>
          <a:srcRect l="2862" t="29690" r="23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ns and Ruined Buildings Near the Tredegar Iron Works - Richmond, VA, April 18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0" y="4952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ight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lanta, 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tlanta%20civil%20w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762120"/>
            <a:ext cx="5143320" cy="609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ap000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5238720" cy="27241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0" y="29750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ov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leston, South Car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712">
            <a:hlinkClick r:id="rId1"/>
          </p:cNvPr>
          <p:cNvPicPr/>
          <p:nvPr/>
        </p:nvPicPr>
        <p:blipFill>
          <a:blip r:embed="rId2"/>
          <a:srcRect l="3126" t="21765" r="3126" b="76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ppled Locomotive, Richmond &amp; Petersburg Railroad Depot - Richmond, VA, 18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0" y="4038480"/>
            <a:ext cx="441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Southern armored railroad gun has gone as far as it can on these rails, typifying Civil War destruction of Southern railroad tracks. (Virgi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ar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51400" cy="407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brid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56320" y="0"/>
            <a:ext cx="4387680" cy="3462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4800600" y="358128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famous photo was taken looking across the ruins of the railroad bridge in Fredericksburg, 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18:53:55Z</dcterms:created>
  <dc:creator>Adam Berlin</dc:creator>
  <dc:description/>
  <dc:language>en-US</dc:language>
  <cp:lastModifiedBy>alma_robledo</cp:lastModifiedBy>
  <dcterms:modified xsi:type="dcterms:W3CDTF">2010-09-16T16:26:18Z</dcterms:modified>
  <cp:revision>35</cp:revision>
  <dc:subject/>
  <dc:title>Slide 1</dc:title>
</cp:coreProperties>
</file>